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A4F9-EFA6-46B3-94CB-574671F36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8A13-4AB7-4071-B1B7-B33F3BA5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7167-C90F-4BCE-BC7E-E072341BC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80F8-3B97-4F97-8462-3FDFE859E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DB4D-7B76-4DD2-99AE-140EB9F7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3CDF-0BB2-46A9-8E01-000AECF4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48C1-D218-40A1-AF51-153FF869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320F-1BB8-4453-B268-B08D04A1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B019-8240-4CBA-AB13-756BD945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EFAD-EEAA-4418-A3A2-4F26F7FE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77BF-645E-44A9-BF38-7DB2D5F2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6101-FF66-486F-8864-748E8E06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C264-EBD4-4F8D-84AB-474CB85EA5A6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9473-2BDD-4F46-8E20-9C921FC9D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aiCreate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736B-F2F2-45B6-A902-E3F30480C67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0BEC4C-BE91-4DBD-A30C-F533885F67E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TC</cp:lastModifiedBy>
  <dcterms:modified xsi:type="dcterms:W3CDTF">2008-10-18T06:58:44Z</dcterms:modified>
  <cp:revision>6</cp:revision>
  <dc:subject/>
  <dc:title>Slide 1</dc:title>
</cp:coreProperties>
</file>